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282D-09C5-4CD6-9031-795E96A03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B310-C33A-4563-8D47-1DDD5A75E587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54080" y="303120"/>
            <a:ext cx="4746600" cy="3560760"/>
          </a:xfrm>
          <a:prstGeom prst="rect">
            <a:avLst/>
          </a:prstGeom>
          <a:ln w="0">
            <a:noFill/>
          </a:ln>
        </p:spPr>
      </p:sp>
      <p:sp>
        <p:nvSpPr>
          <p:cNvPr id="156" name="Text Box 3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1BBF-49F1-425F-9554-7DBD85D255D0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054080" y="303120"/>
            <a:ext cx="4746600" cy="3560760"/>
          </a:xfrm>
          <a:prstGeom prst="rect">
            <a:avLst/>
          </a:prstGeom>
          <a:ln w="0">
            <a:noFill/>
          </a:ln>
        </p:spPr>
      </p:sp>
      <p:sp>
        <p:nvSpPr>
          <p:cNvPr id="159" name="Text Box 3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2E46-5F80-4BDA-8AAB-B30C4773429A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54080" y="303120"/>
            <a:ext cx="4746600" cy="3560760"/>
          </a:xfrm>
          <a:prstGeom prst="rect">
            <a:avLst/>
          </a:prstGeom>
          <a:ln w="0">
            <a:noFill/>
          </a:ln>
        </p:spPr>
      </p:sp>
      <p:sp>
        <p:nvSpPr>
          <p:cNvPr id="162" name="Text Box 3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A6B4-308B-47EB-9824-CBFA198B6A76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54080" y="303120"/>
            <a:ext cx="4746600" cy="3560760"/>
          </a:xfrm>
          <a:prstGeom prst="rect">
            <a:avLst/>
          </a:prstGeom>
          <a:ln w="0">
            <a:noFill/>
          </a:ln>
        </p:spPr>
      </p:sp>
      <p:sp>
        <p:nvSpPr>
          <p:cNvPr id="135" name="Text Box 3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985C-F627-4311-8E0E-DB4960BC9AC1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54080" y="303120"/>
            <a:ext cx="4746600" cy="3560760"/>
          </a:xfrm>
          <a:prstGeom prst="rect">
            <a:avLst/>
          </a:prstGeom>
          <a:ln w="0">
            <a:noFill/>
          </a:ln>
        </p:spPr>
      </p:sp>
      <p:sp>
        <p:nvSpPr>
          <p:cNvPr id="138" name="Text Box 3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DE97-4F1B-4708-8780-13B8089AB979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54080" y="303120"/>
            <a:ext cx="4746600" cy="3560760"/>
          </a:xfrm>
          <a:prstGeom prst="rect">
            <a:avLst/>
          </a:prstGeom>
          <a:ln w="0">
            <a:noFill/>
          </a:ln>
        </p:spPr>
      </p:sp>
      <p:sp>
        <p:nvSpPr>
          <p:cNvPr id="141" name="Text Box 3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1D9A-4D3E-4A69-A66C-3BF9AC3A087F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54080" y="303120"/>
            <a:ext cx="4746600" cy="3560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3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9662-DB5F-4C24-A639-2733A7AA5914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054080" y="303120"/>
            <a:ext cx="4746600" cy="3560760"/>
          </a:xfrm>
          <a:prstGeom prst="rect">
            <a:avLst/>
          </a:prstGeom>
          <a:ln w="0">
            <a:noFill/>
          </a:ln>
        </p:spPr>
      </p:sp>
      <p:sp>
        <p:nvSpPr>
          <p:cNvPr id="147" name="Text Box 3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643C-A000-4688-88E8-C8DE1E71C6DD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054080" y="303120"/>
            <a:ext cx="4746600" cy="3560760"/>
          </a:xfrm>
          <a:prstGeom prst="rect">
            <a:avLst/>
          </a:prstGeom>
          <a:ln w="0">
            <a:noFill/>
          </a:ln>
        </p:spPr>
      </p:sp>
      <p:sp>
        <p:nvSpPr>
          <p:cNvPr id="150" name="Text Box 3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1E87-2A05-47FA-ACA7-5A21557450A0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054080" y="303120"/>
            <a:ext cx="4746600" cy="3560760"/>
          </a:xfrm>
          <a:prstGeom prst="rect">
            <a:avLst/>
          </a:prstGeom>
          <a:ln w="0">
            <a:noFill/>
          </a:ln>
        </p:spPr>
      </p:sp>
      <p:sp>
        <p:nvSpPr>
          <p:cNvPr id="153" name="Text Box 3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2C3-E961-4C3E-AA6D-A197D990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719-F78E-45A7-89FA-8AD3D146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221-DE9E-47C3-A144-79BA1C8E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B9A-90FE-4569-B62F-AA98A6FB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3F90-EFF1-4DB8-9FB9-A80994F7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C96C-CF7C-4A8D-A756-567C1078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2667-AA30-4A51-9DAC-CBB5B8AA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4098-B3AB-4E21-B246-EC49F73E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5A28-957E-4EA1-9CDE-9F669027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6B55-DAB3-42E4-B9A6-45B28F93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EE0B-9ABE-4347-881E-3F7107C0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9A8-C39F-4842-A4BE-219F90D0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5CDC-66D4-47E1-90B5-24A112B9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F32A-E25E-41CD-AE90-9A9D8744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7326-4BEB-481C-BCC7-584BE922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C86E-2133-4645-8748-0282FB1A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D486-FCAA-4F8B-9176-E8B0D401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CFC-D2A9-4A58-BC65-5C1142A9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40A-4DCF-40E8-8C6C-0054E742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02FF-765E-4952-9ECC-1098FB07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A03D-27ED-423F-A65A-F69DA621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D81-8479-48FB-A1AC-0758DFF1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732-04DC-4B18-950C-17797E73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5B57-CAC9-4D3A-A4D2-C0601FA0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A2CD-1B1A-480A-9415-70735EE83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1E97-001B-4B7C-BCCE-8F52B0DCD81E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66"/>
                </a:solidFill>
                <a:latin typeface="Tahoma"/>
              </a:rPr>
              <a:t>Testiranje zasnovano na toku podataka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ff"/>
                </a:solidFill>
                <a:latin typeface="Tahoma"/>
              </a:rPr>
              <a:t>Testiranje zasnovano na toku podataka</a:t>
            </a:r>
            <a:endParaRPr b="0" lang="en-US" sz="32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Razli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čite strategije zahtevaju pokrivanje različitih DU lanaca. Testovi se generišu da postignu 100% pokrivenost za svaki od kriterijuma ako je moguće.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Realna pokrivenost izražava se formulom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509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Coverage = (N/T) * 100%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509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Gde je T broj lanaca po nekom kriterijumu (utvrđuje se statičkom analizom programa) a N je broj tih lanaca koje su testovi zaista pokrili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640" y="333000"/>
            <a:ext cx="8893080" cy="6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ff"/>
                </a:solidFill>
                <a:latin typeface="Tahoma"/>
              </a:rPr>
              <a:t>Strategije testiranja zasnovanog na toku podataka</a:t>
            </a: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rema radu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Rapps-Weyuker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imamo sledeće strategije pokrivanja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Sve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defini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cij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Sve upotreb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Sve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p-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upotreb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Sve c-upotreb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Sve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c-u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otrebe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neke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p-u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otreb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Sve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p-u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otrebe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neke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c-u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otreb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Svi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du-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lanci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Sve definicije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100% 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okrivenost se postiže ako se izvrši bar po jed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u lanac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 od svake definicije svake promenljive do neke od upotreba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bilo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p-use 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bilo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c-use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rime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9280" y="3692520"/>
            <a:ext cx="89298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Sve c-upotrebe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100% 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okrivenost se postiže ako se izvrši bar po jed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n du lanac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 od svake definicije do svih c upotreba te definicij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rime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08000" y="3583080"/>
            <a:ext cx="89647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69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Sve c-upotrebe, neke p-upotrebe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47400"/>
            <a:ext cx="7772400" cy="36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100%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okrivenost se postiže ako se izvrši bar po jedna du lanac od svake definicije do svih c upotreba te definicije; ako definicija nema c-upotreba, mora se pokriti bar jedan du lanac sa p-upotrebom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rimer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ored du lanaca iz svih c upotreba, treba pokriti i jedan du lanac za p-upotrebu promenljive Is_Complex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08000" y="4941720"/>
            <a:ext cx="8785080" cy="13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Sve p-upotrebe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100% 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okrivenost se postiže ako se izvrši bar po jed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u lanac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 od svake definicije do svih p upotreba te definicij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rime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34920" y="3798720"/>
            <a:ext cx="900108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Sve p-upotrebe, neke c-upotrebe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3992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100%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okrivenost se postiže ako se izvrši bar po jed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u lanac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 od svake definicije do svih p upotreba te definicije; ako definicija nema p-upotreba, mora se pokriti bar jedan du lanac sa c-upotrebom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rimer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ored du lanaca iz svih p upotreba, treba pokriti i po jedan du lanac za c-upotrebe promenljivih A,B,C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4920" y="5157720"/>
            <a:ext cx="90360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Sve upotrebe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88848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100% 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okrivenost se postiže ako se izvrši bar po jed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u lanac</a:t>
            </a: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 od svake definicije do svih upotreba (i p-use i c-use) te definicij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Prime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431640" y="2835360"/>
            <a:ext cx="810108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Sv</a:t>
            </a: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e</a:t>
            </a: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 DU </a:t>
            </a: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putanje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888840"/>
            <a:ext cx="7772400" cy="570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100%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okrivenost se postiže ako se izvrši </a:t>
            </a:r>
            <a:r>
              <a:rPr b="0" lang="sr-Latn-CS" sz="2800" spc="-1" strike="noStrike" u="sng">
                <a:solidFill>
                  <a:srgbClr val="000066"/>
                </a:solidFill>
                <a:uFillTx/>
                <a:latin typeface="Tahoma"/>
              </a:rPr>
              <a:t>svaka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‘jednostavna’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utanja od svake definicije do svih upotreba (i p-use i c-use) te definicij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jednostavna’ putanja u grafu toka kontrole je putanja kod koje se svaki njen deo pose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ćuje minimalan broj puta (npr. otvorene putanje, jedna iteracija kroz petlju)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Za posmatrani primer, postoje dve jednostavne putanje van onih koje pokrivaju testovi za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’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sve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upotrebe’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. To su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0-1-4-5-9-10   i   1-4-5-9-10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6"/>
                </a:solidFill>
                <a:latin typeface="Tahoma"/>
              </a:rPr>
              <a:t>Medjutim, nije ih moguće pokriti testovima.    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ff"/>
                </a:solidFill>
                <a:latin typeface="Tahoma"/>
              </a:rPr>
              <a:t>Testiranje zasnovano na toku podataka</a:t>
            </a:r>
            <a:endParaRPr b="0" lang="en-US" sz="32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Strategije zasnovane na toku podataka</a:t>
            </a: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Korisne za izbor test putanja programa koji poseduju ugneždene if-ove i petlj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ff"/>
                </a:solidFill>
                <a:latin typeface="Tahoma"/>
              </a:rPr>
              <a:t>Tehnike testiranja zasnovane na toku podataka</a:t>
            </a:r>
            <a:endParaRPr b="0" lang="en-US" sz="32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Programske putanje se selektuju za testiranje </a:t>
            </a: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Vodeći računa o lokacijama dodele promenljivama i lokacijama upotrebe istih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Osnovni pojmovi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Za iskaz</a:t>
            </a: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 S,</a:t>
            </a: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 definišemo skupove</a:t>
            </a: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Tahoma"/>
              </a:rPr>
              <a:t>DEF(S)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= {X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| iskaz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S sadr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ži dodelu vrednosti promenljivoj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X}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Tahoma"/>
              </a:rPr>
              <a:t>USE(S)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= {X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|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iskaz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S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sadrži upotrebu promenljive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X}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rimer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: 1: a=b; DEF(1)={a}, USE(1)={b}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rimer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: 2: a=a+b; DEF(2)={a}, USE(2)={a,b}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Osnovni pojmovi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potreba se naziva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predikatskom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(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p-use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) ako se pojavljuje u predikatskom izrazu naredbi kontrole toka (if, while, switch itd.)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 suprotnom, upotreba se naziva ra</a:t>
            </a: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čunskom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computational use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or 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c-use</a:t>
            </a: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Osnovni pojmovi – </a:t>
            </a: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život promenljive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Za promenljivu</a:t>
            </a: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 X </a:t>
            </a: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kaže se da je </a:t>
            </a:r>
            <a:r>
              <a:rPr b="1" lang="sr-Latn-CS" sz="3200" spc="-1" strike="noStrike">
                <a:solidFill>
                  <a:srgbClr val="3333ff"/>
                </a:solidFill>
                <a:latin typeface="Tahoma"/>
              </a:rPr>
              <a:t>živa</a:t>
            </a: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 u iskazu</a:t>
            </a: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 S1, </a:t>
            </a: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akko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X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je definisana u nekom iskazu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S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 i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pos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t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oji putanja od 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S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d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o S1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koja ne sadrži novu dodelu promenljivoj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X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ff"/>
                </a:solidFill>
                <a:latin typeface="Tahoma"/>
              </a:rPr>
              <a:t>Lanac Dodele-upotrebe (DU lanac)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Ozna</a:t>
            </a: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čava se sa </a:t>
            </a: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[X,S,S1],</a:t>
            </a: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 gde su</a:t>
            </a: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S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S1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iskazi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a X promenljiva tako da važi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X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DEF(S)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 i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X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USE(S1)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 i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X i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ma dodelu u iskazu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S </a:t>
            </a:r>
            <a:r>
              <a:rPr b="0" lang="sr-Latn-CS" sz="2800" spc="-1" strike="noStrike">
                <a:solidFill>
                  <a:srgbClr val="000066"/>
                </a:solidFill>
                <a:latin typeface="Tahoma"/>
              </a:rPr>
              <a:t>koja je živa u iskazu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S1. 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ff"/>
                </a:solidFill>
                <a:latin typeface="Tahoma"/>
              </a:rPr>
              <a:t>Primer DU lanaca</a:t>
            </a:r>
            <a:endParaRPr b="0" lang="en-US" sz="32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02" name="Text Box 1027"/>
          <p:cNvSpPr/>
          <p:nvPr/>
        </p:nvSpPr>
        <p:spPr>
          <a:xfrm>
            <a:off x="685800" y="817560"/>
            <a:ext cx="8278920" cy="60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// Is_Complex is true if the roots are not re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// If the two roots are real, they are produced in R1, R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oid Solve_Quadratic(float A, float B, float C) {       //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loat Discrim = B*B - 4.0*A*C;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/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ool Is_Complex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/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loat R1, R2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/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 (Discrim &lt; 0.0) {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/ 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_Complex = true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/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 else {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/ 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_Complex = false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/ 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/ 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 (!Is_Complex) {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/ 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1 = (-B + sqrt(Discrim))/ (2.0*A);   // 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2 = (-B - sqrt(Discrim))/ (2.0*A);   //  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/ 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1333440"/>
                <a:tab algn="l" pos="2151000"/>
                <a:tab algn="l" pos="2967120"/>
                <a:tab algn="l" pos="3782880"/>
                <a:tab algn="l" pos="4599000"/>
                <a:tab algn="l" pos="5416560"/>
                <a:tab algn="l" pos="6232680"/>
                <a:tab algn="l" pos="6840360"/>
                <a:tab algn="l" pos="691200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}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/ 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Primer</a:t>
            </a: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: definicije i upotrebe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403280" y="1084320"/>
            <a:ext cx="6121440" cy="55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69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Primer</a:t>
            </a: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:</a:t>
            </a:r>
            <a:r>
              <a:rPr b="0" lang="sr-Latn-CS" sz="3600" spc="-1" strike="noStrike">
                <a:solidFill>
                  <a:srgbClr val="3333ff"/>
                </a:solidFill>
                <a:latin typeface="Tahoma"/>
              </a:rPr>
              <a:t> DU lanc</a:t>
            </a: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i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332000" y="1362240"/>
            <a:ext cx="6335640" cy="512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4:00:26Z</dcterms:created>
  <dc:creator>DB</dc:creator>
  <dc:description/>
  <dc:language>en-US</dc:language>
  <cp:lastModifiedBy>DB</cp:lastModifiedBy>
  <dcterms:modified xsi:type="dcterms:W3CDTF">2024-10-05T14:18:32Z</dcterms:modified>
  <cp:revision>294</cp:revision>
  <dc:subject/>
  <dc:title>Testiranje softvera</dc:title>
</cp:coreProperties>
</file>