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0AB-FF2B-41BB-85AA-A157C273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DB8-4498-4B85-82FB-56CD0DF6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F7E-6B8D-4A0D-9A95-7DD240F2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652-E497-4B7B-A5FE-750BDCFE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80D-0738-4394-8EB8-B98D6341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A1C-1F61-4584-9D6E-4393BB08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BB1C-0653-4C0D-AC85-096AD495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F0E-2626-492D-93B1-C055099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53D-73DB-4A6E-8923-5C60572F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B4D-9125-443D-AF66-AAF5560F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415-2DB5-4D74-8D71-EE5BE19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D14-CAFF-4257-B11C-53117E87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568D-956E-4881-89C4-720C42ECE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iranje sintak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stematskom primenom definisanih mutacija na pojedine elemente sintakse, dobijamo skup test pri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18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(nastava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569080" cy="3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250920" y="1903320"/>
            <a:ext cx="85690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pomene: neke mutacije daju sintaksno ispravne izraze i one su zanemar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primer, m2 (promena el_4 sa el_2) daje korektnu sintaksu jer su i el_2 i el_4 isti (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ke mutacije daju isti rezultat pa su pokrivene samo jednim test prime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primer, primenom m1 menjamo el_4 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+”, dobijamo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la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0e+”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o je isto kao u TP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binovanjem mutacija, ili izborom drugih vrednosti kada se primenjuju pojedinačne mutacije, može se dobiti još veliki broj drugih test pri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iranje sintak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di se o tehnici crne kut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rebno je analizirati funkcionalnu specifikaciju softvera da bi se modelovalo njegovo ponašanje opisom sintakse ulaz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hnika je onoliko efikasna koliko opis sintakse prema kojem se testira odgovara stvarnom ponašanju kompon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motrimo modul koji proverava da li vrednost ulazne promenljive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at_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odgovara sintaksi broja u pokretnom zarezu. Izlaz (promenljiva check_res) uzima vrednosti valid ili invalid u zavisnosti 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nosti sintak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826920" y="2276640"/>
            <a:ext cx="49690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is sintakse broja u pokretnom zarezu u Backus Naur-ovoj formi (BN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= int "e" 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= ["+"|"-"] 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= {dig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 = "0"|"1"|"2"|"3"|"4"|"5"|"6"|"7"|"8"|"9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rminali su prikazani pod navodnicima – to su elementarni delovi sintakse ulaza, tj. znaci od kojih se sastoji ul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je sint. operator koji razdvaja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o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uje neobavezni element (može se izostavi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}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okviruje element sintakse koji se u ulazu može pojaviti jednom ili više p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 primeri za validnu sintak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ćemo izvesti opcije iz sint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g opi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iza opcije stavljamo oznaku [opt_i], da bismo je kasnije mogli identifikov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ma op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 tr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p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1]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“+” 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2] 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“-” 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 d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p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jednocifren br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4] 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i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šecif bro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pt_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i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ma 10 opcija: po jednu za svaku cif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pt_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-opt_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eba konstruisati po jedan test primer za svaku od 15 dobijenih op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 primeri za validnu sintak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48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stovi pokrivaju i druge opcije osim onih za koje su pravl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vaj skup TP nije minimalan (dovoljni bi bili npr. 2, 3 i 5 da pokriju sve opc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đutim, ako se ovako napravi za svaku opciju posebno lakše je ispraviti potencijalnu grešku ako se testiranjem u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vo definišemo listu generiških mutacija, na 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1. uvodi nedozvoljenu vrednost za sint.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2. menja element drugim definisanim elemen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3. izostavlja potreb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4. dodaje suviš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611280" y="2276640"/>
            <a:ext cx="82818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Elementi za sintaksu float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BNF reprezentaciji obeležićemo pojedine sintaksne elemente sa el_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= int "e" int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1 = el_2 el_3 el_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= ["+"|"-"] nat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5 = el_6 el_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 = {dig}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8 = el_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|"1"|"2"|"3"|"4"|"5"|"6"|"7"|"8"|"9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10 = el_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pomen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"+"|"-"]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tretiramo kao jedan element pošto mutacije nad pojedinačnim opcionim elementima ne prave test primere sa neispravnom sintaksom koristeći definisani skup mu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9:53:36Z</dcterms:created>
  <dc:creator>Dragan Bojic</dc:creator>
  <dc:description/>
  <dc:language>en-US</dc:language>
  <cp:lastModifiedBy>DB</cp:lastModifiedBy>
  <dcterms:modified xsi:type="dcterms:W3CDTF">2024-10-05T14:05:17Z</dcterms:modified>
  <cp:revision>67</cp:revision>
  <dc:subject/>
  <dc:title>Testiranje zasnovano na konačnim automatima</dc:title>
</cp:coreProperties>
</file>